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360-C21E-459B-83E9-DE8132B5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A2D-CB13-4720-839B-1911A216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97942-B5C4-4E0E-A9AC-0E469D25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BE68E-BF6A-45AB-84D6-54C16ACF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7FE44-85BE-4AF7-8DD1-19CADCBD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F5D94-A02C-4ED5-8B7E-0884C0AC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F2F76-5FA5-4CFC-BA1C-143FE654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ABBEB-BF58-4C74-A89A-617C29FA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134DC-6A2B-408A-9C83-534550F1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E326C-F700-46F3-95DD-FDB22B2F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7D9A8-FF5D-4227-842C-27CE401C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25789-C29F-454B-AC95-FA789E06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AC6-952F-43DB-9018-779B1BCD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086C7-6893-4EFA-8A6F-CFD429BE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31F12-F5CB-41D6-877E-8E6D947B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BF8E8-72CD-447B-A5E6-051F8B02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51A67-7B76-420A-BA40-5BDF9BCB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D5C18-5272-4A8F-9077-85881670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362B0-0E72-4F89-BC99-3656107B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57A69-D7A9-455E-A480-BBD8043A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04574-16EF-46AE-8FB5-F4BF8322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795AF-1772-4AA3-B7E7-538F9BEE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CD6FB-12FE-40CC-B692-EA6CC296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73F-5C25-4CD2-8A6F-6DAAA6AD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CDBCA-B8B3-4116-AD8F-F8F3C5B3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A2216-FBB1-48B9-863E-F064A442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6FC22-3926-4947-BA13-569F35A6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CCE81-15CB-4698-8F8E-7DB6921E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27ADC-C79B-4A64-AAD7-1B0C0E72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A725F-948D-4C67-941F-52D2FDCD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3BA14-7CD6-48B3-B0A1-6343BE4E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A8DF7-6A91-4CB5-8141-42B9E73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F1083-0CC7-4A0A-9FFD-8BED60E8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1D4B9-AB84-42EE-956D-A14744FA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25D7-08EA-4B65-95E1-7100D49B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C00E9-88E2-40DA-A7AD-D6AA6790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34627-945D-4D25-A2EC-927FAB69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0055E-21A1-4E12-A701-CE7D6213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9BA7E-FEE4-48D4-823E-AF9578EE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5C9D2-2953-4E2B-9FE4-692267A3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FE74A-59AF-4C1D-A56A-F87F86D0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89DA7-EFA3-48BD-AC74-A0E2DC25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1D006-8D19-4895-A674-BD973769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5954A-1B10-44C5-A91D-1CBA5934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E43EB-FF9F-4CA5-91D0-3FB825E3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EEA4-9406-45DB-97DE-8F1BC999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73AA1-B0AF-4236-8D1B-D7B40E5F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EE399-92DA-4D36-8365-16CED372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1EC5F-E35C-4C0D-A800-ED30E66F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05159-A552-44AB-B281-0D568DE5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201F8-A117-49F6-A67D-32C8F44F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A6E35-AE9A-4892-BB6B-0DC38F4E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768CB-0E5A-4105-AD90-1A08D60C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ECC2F-D06E-4E8B-9E43-64F99EC2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45D0A-6655-4794-9036-415C9E9C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80FD5-185E-4319-9447-A0647EE5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37B7-52F6-4989-A0A4-94B78038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EBDB4-B8A7-4878-845D-4732FB38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6E23D-8E56-4BAE-A08A-4BDC9F50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B90B5-3F82-427A-AA51-4EFDC661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BB6AA-8B21-4458-A3E1-E1732E4C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82CA9-C65C-4911-BC20-AF69C810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C6CC9-95E2-436F-A5A0-70EF0C7E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7A315-9FB8-4255-902D-7F90B84E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0CB02-3174-4A20-B2B5-784A89DA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7B8CD-7B28-4761-B296-CB936317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1DAAD-F114-457A-BB27-8CE1F92A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FDC0-9784-4472-B879-6A8B7A7D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AE9E2-0B4A-45F0-B9B6-EE39BD26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62BE0-D995-4D45-8427-3076B233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A2DE2-9623-496D-95E6-29093FB6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1A6A2-89AA-4C6D-B0F8-786E008A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FA2EA-8C9A-41FA-AA5D-4DAC3A57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F31AF-110B-4BBD-B28D-CD9B25FD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91A206-72EF-4BDB-ABD8-470E45DB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37471-CBC6-409E-90A8-54D66463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85751-8D32-494D-9D9E-6C2A3335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F276DE-12AE-47B0-ACE9-3DB93EB2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0DFE-9ECF-4CB3-ACBD-A5DF2904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CC797-CE74-4021-B3B4-8EF5A13D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CB2CE-D39A-4605-B569-3C1B3BD7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95D1C-22FA-4CC9-AAAB-ECF39EFB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13E06-3D1B-425E-BFA8-430EA159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5584E-BE4C-4DB1-A93E-B4675E2E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B44FA-27BE-467C-9B4C-556704B6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24A147-74AA-43FF-92E7-E2C5F501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D262A-52D9-4E12-A33A-2C778D58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4CC4E-E727-4453-B57B-4DF00D39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239C5-402D-4B20-B755-EB6E3043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81F9-5038-4790-BDCF-0B8AC8B5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130B1-86A2-4DC4-A047-FF5C4D27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B417A-601F-4F55-922C-2D2FAAC2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A090D-9419-455D-920D-6FF65080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14E87-C92B-4131-B9FA-1F5D6D53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464C98-B3AF-42AC-A08F-6A8DD66D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3BE46-8440-49C6-A339-E1947A26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D5A8F-7C90-416D-A2F7-A56828A9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7AC8F-9328-4C8A-B554-F9B4A835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FE7A9-3C40-407B-89C2-E81D0CE4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8A6C2-BBC3-447D-830A-2186531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3031-FCC7-4E23-BBD8-6A5B9537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63248-DCF9-4382-B74B-F943E961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81A60-110F-4A4C-9653-5AA95F9C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EB53B-2B9D-4D29-9C0D-F477823E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C16FA-698D-41C7-8632-8D06F0D6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4AC0F-C190-42C2-B478-91F2978C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F7AD2A-7CBC-4A2A-AB8C-174F9750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7A66F-43DA-430E-966C-BD263993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72ED5-835B-4787-8A5D-73DE42AA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0EF98-15AE-4FED-9A30-8921E0BF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3CB4D-8FAE-460D-8CC8-23AA8808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D60-93D3-4707-ADEF-CE51A7BC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2EFC-CD4E-443A-87EC-687A582D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B4EAE-6F45-4003-BB53-B4BBC955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514B4-34DF-47E8-91CE-B4CD9C72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4C3B4-72E9-4768-90E9-17A9E2DC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33E76-149F-4231-AB5A-51B7A5D6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E93BCC-EE63-4D80-BBF6-5C3BAC89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7C0D40-B6BE-46FB-B88A-3C72E75F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903793-45BA-4164-A2CD-C48E4FB6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7A29FF-70FA-403B-8F48-8711DFE0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42FBD-AB48-4497-9459-303EDF2B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0941A-04EB-4682-9737-A703111C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0231-ED9D-4C97-AC8B-21E3AE21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A045F-CA64-42AA-97B7-C88B4E60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E55D1-774C-4EE6-8D00-B3ED0E0B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CC9470-7DDA-4710-A1D2-AAEF8A1B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D26A9-226A-4BEF-89EA-1F0AE6F6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E371A-7880-4E93-9F8B-C3951D79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286706-32E7-4131-8315-D98F81E5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73A1B-406E-47E6-8B7F-F3DB3842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ABCFC4-4FCB-4819-84A7-F26DEB19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51B3E-01FD-4C85-AE76-D3B532AA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AD368-26AE-4E92-B7AB-D47CE90C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F566-468A-4678-99D6-093FE791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61E47F-0DC4-48B0-ACF4-BFFEF455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C81562-E142-4391-B6CD-F772DD1B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60BA21-CE32-4431-AAD0-A7948F27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41191-DB31-4368-B465-76763190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93B17C-5B5E-48DA-B528-AFAC1370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B27D23-0AFE-415B-9B34-17F96BDF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77372-2076-4F95-A46D-6E37B1E8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BBFB40-D4A1-4805-900C-EAF3D157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C564E9-FB5D-40CE-9DAC-357711B5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CE94B-9C18-4AFF-B160-B2488546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62A7-B7BA-453C-BD94-F328129C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28363-2220-47F0-9A7D-4951162E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7CAF6-6FED-49A5-9C8D-2C061BD3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8FABB6-3FF2-4B8D-A93A-244A18C3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C9A13E-8899-4FCA-93F7-E30DFB64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676D6-E3B8-447D-8646-A6832042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80AFE5-BFF8-49EB-908E-1079C92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F2BD2-A636-4E72-AA8C-A45ECD48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358710-D5DC-4D89-ACC1-13F11A1F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DD767-ED6B-4AD1-A069-B923651E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B079C-4415-4855-878F-19EF87FA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53B2-564B-4B7A-BE67-3928F54C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E4A719-7C11-466D-832D-7B264BDF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CF4AD0-D74D-4CE8-ABFE-60890F28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F0F4E6-6D9D-4FF1-A895-1F17CA4B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590F54-A435-4608-BEA2-CCEF9189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D125E-48CE-4FF9-87BF-BAC1B0FC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2B23E1-30AF-453F-9E58-1D9A6FE2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DE061A-708B-48FD-BE41-50D0D20F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D9DE55-74B0-4395-A23D-F041F58C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A9701A-5637-4EED-82B4-8EB6D2C3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034AC-5BD6-4997-814F-6E298E23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991C-B828-4E11-A1C4-0B8B14FB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6F2732-CC7C-47DD-BCBA-B0DA31F6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E2307D-6AC0-4D22-B9D9-3A1D9D74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F9AB8-4B85-497C-ACE7-A81721F5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F56D0A-650A-4790-92CB-CFD2D2EE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D99783-939A-417F-9F1B-34894926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5C55E3-1EEB-4A6E-A8E7-88370CF5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34F592-EDD9-43DF-A613-12A6E934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00829F-913B-4AE5-B0B7-6CBF062C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DF18A6-D43C-4D98-B657-A5043CDC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505CA2-33E2-4E93-961B-1422847D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B485-D9F2-4F5D-83AE-32B72EF7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323E4F-9D2B-4041-A316-51EAA4BD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C9D541-5992-42B1-905D-423E8181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A4F0C3-9698-459C-9675-8A81E914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431654-D32D-46E6-8AD7-02C0E7C7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8EA62F-7424-48D8-8369-BC9299FF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8E66DA-75F2-4D63-BCB4-776254A5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EE72E7-C97C-4455-BD87-F605530D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75650-D482-4FD4-BAD4-2FE647EC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23999F-FDFE-461F-8690-1D60E23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EA7679-71DB-48EC-BB53-F0F425FE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B3DD-EE83-4173-8D24-514FDD10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0EED54-8885-4922-840E-B04B1F52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F764D7-EA00-4FF8-9364-855D9288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7E247B-DAB9-4CAF-94AC-A89C77C4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999242-B2E4-48B3-9A67-C2234913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CF3842-5FF1-4DDB-91E1-0E937709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C89F91-2EA0-4A15-A481-AFEA9430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9E5435-A50F-4193-B64C-54C9EF1F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218E7E-AC2C-4BCE-968D-668269EB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78C805-4442-43D0-959D-03879A92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8DF2EE-21A5-493F-850C-1F8F6E4D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35342-A0DD-4DF9-B283-06F4C80D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89130C-1A84-4D49-B7E7-ED6BF4BE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6820F3-47F9-4429-B46F-0E9A681D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E5E627-6033-4DAB-A694-8693F423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440F0E-544A-4B6B-8B5D-BF969313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10B0BA-5C4F-4A5A-A2E4-9AEA19B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293BAD-1778-4638-8486-7ECEAE2D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DA654B-D774-4D3E-9836-0984F8D8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6A4B77-B6EC-4A68-AABA-DAC879C8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24492B-1BD3-4C6F-A94D-C817537A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EC7B81-E506-47C5-970D-3E9CA5AD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5DB7-3307-4F73-9046-2F363129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F372E1-05D3-4522-8EB3-D4435E33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458248-4C57-46F0-868A-603A3089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ED5F0C-C93A-46FD-92C1-C32AAD8D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8CD2B2-7804-4CC5-90F2-C2D701C6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721E5A-5ECD-41B6-A30D-C1A95FEA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19BDDA-BFF8-4257-965D-16A1B4E9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16F2D8-8353-4FBB-9E77-22108FD2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421140-25E1-4090-A1C2-4CDB6471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5CF603-58CA-4239-9B18-DA8345C0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D93A7D-6386-424F-AFC8-2B76F7F7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783-CCB6-4BAD-B1B0-44178546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D056-1B2C-4AD7-8FB5-F4877D86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1AA261-852D-457B-8507-F9FB9990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93F437-E7C2-4309-955C-B55FA5F4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EA7E6B-D394-403D-99A5-32C1DE75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E3534E-4EFF-491B-A2EC-08FB8F71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336D29-2DAD-4171-B403-AB66B547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6DD850-362F-412A-B8FD-6CB5B788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153039-9D9A-4FBA-AD70-EC1BFF80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72412F-17C0-4E47-AE23-BDF215B8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BF5400-6EF9-4CF5-9AC8-0C114585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6AFFB3-F64F-4856-B2DF-81F0DB5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9AE1-7713-483B-902B-17E48E57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2EA96B-ACEB-412C-B187-9DF848FF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1353A0-2D8B-453E-A60D-8B3EB4C6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92A12E-DA32-4F9E-B665-461AF8F9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13C421-1ACC-4FCD-BC3A-4ACE514E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631546-83A7-4B96-8019-7FC36F79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5DCDFC-B37A-4409-BAC1-54575239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2E9803-366A-4662-9A75-7712CE90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718340-BB7F-48F3-A6AB-5AC4C152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5F03D1-E9AB-4CAD-9EBE-65BB98E9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ACA314-BAB1-4F33-949D-51636D5E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31F7-6F7B-4E74-B5E1-A67D026F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303358-26FD-454F-93C2-EE650F2B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82DD10-421A-4AA9-BE49-4FC9150C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57D60E-3500-4891-8971-11E5FE29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F25355-D2D8-4C22-9E1C-588B32AE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64566C-49D9-4628-B395-56B3CC02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83BE5D-5060-4139-B642-8D19DB71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7982E6-7D54-4BF3-BD95-A74F423D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AA2DFA-ECEE-4E84-B9F2-93C1714B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3A322A-BB3A-47C9-83B8-00492782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F1C954-07B8-41DF-91EF-42A24883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BEB0-08ED-4E4A-93FC-CF9D1734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C92F04-C47E-4E4A-ABEE-1DBD7406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4D45F6-6EB8-43DA-8209-66F70C77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D62250-CB85-4F33-8C17-71777F5F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598AD5-F53E-4086-AE3E-11934102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B7AE1D-4AF6-4033-A457-C2EC0EA4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C30C3A-0AE1-4FA2-A2AF-DE2DF13D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D39BA6-794A-4A4C-9D90-0C6436C1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9CEB3E-F89D-4375-B066-1F20AB75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AFFFA1-39C6-44C9-B1B4-E1E5CC2B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A5D1C3-3C81-485E-827F-52F5F80B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99D05-D743-418A-A362-A36767DB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C03DCF-D4F1-44FF-9FF4-00E5CA36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42FC4E-BF6A-46E2-A348-046285C6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5EF8C2-C9B7-44DB-9432-615CC849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5A1F2F-C127-49C8-877A-8A6C98C2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77981C-34D7-4E68-9FF6-CF01ACC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BCB858-FE67-4AD6-9819-9E78932D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52D900-245C-4CE7-A5A9-D6B918FB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3F6C37-C68F-4746-83C6-E403B095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B2AF74-431E-4B85-A331-5CF4EA96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251597-F52C-4683-80AA-5484C618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EF4F-D972-45F9-98D2-D983244B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94140A-8DE4-4298-9076-D4BC6006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983F38-BFF1-4303-B665-E535875E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D0B255-AFBF-4C0F-9650-BF2DEE0A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BB0428-610B-40D3-BA0F-19A0CC85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62FB4B-6C63-4525-A8F5-2C5CC582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5547AB-406C-48CF-98A6-2CCA2C55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9956E4-A1BD-44E0-BE44-014C7B4D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8886EC-6E60-428C-B35C-6BDFCD78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C0E4FE-1997-45C9-A8C5-092628FA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0D6D07-0B0A-4F42-BB31-7F9D420E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9337-5590-4BA0-B521-BD6182AA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837F62-93DD-4A1E-84C8-EB6A1631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1DD32B-5783-40AE-A03E-D508615A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0F65B3-87FE-4B27-8ACF-D95E10C8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D84DB0-65B8-4267-A143-27938C67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25CA08-2DEE-48D3-8266-E19F23FF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5766A2-F69C-4C6B-938D-84E5677A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0DA6E6-2A3B-40FF-990F-92121DC5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FF4DD5-BA42-4BCD-AAF4-54CF5971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1E710B-74D8-41BB-8630-CA57C56D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6DA3A8-30EC-4A75-A238-D2B17D0F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0C3A-F56E-427D-9142-A9FB4F10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8BBDC4-8113-4006-8E0A-446FF660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D15D54-2276-4AE9-B4AC-416FC4DA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F13F46-B71C-4EA0-B047-912E6326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1FA75-07F0-413B-93F5-2811E555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4AC0-27B5-49D7-943A-A7454163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C52-A6FB-4D54-8C7D-C7476A84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E86E-3C8A-4B26-849C-82158B7C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EB46-DC20-4287-84B0-42F35C8F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608E-8E4A-482A-811D-26096841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472C4-5576-4EA3-B064-1A889DE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70C29-F695-4B8D-B8DC-75D4CE6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A06E0-88CB-4542-913A-A87E2C60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C1AA2-07E5-45A4-81E0-AB31295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678E3-4B4F-468E-8E0D-A9AA59EB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8056-BB10-49AA-9D4A-EA1FCCE9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48F33-161D-48F2-8630-A89C1116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BBC-1EFF-44A0-A2D1-1CEC180B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0D318-94E5-4889-8455-BF10993D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ED555-574F-4BFA-B412-CCE80EB2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1D09C-6732-4F7C-AEEA-8D84BE03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093B9-A61D-4B20-B6B2-2DFF1834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BFCF-DFE4-4F86-976D-13393183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AAF9B-A4F2-42EA-ADEC-83E1A7AB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10795-41FB-4EA5-9873-9757B9DC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D6BE4-8D67-43AB-B09F-D57CC8DE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4CA7C-5DCA-4424-B3A6-6B7FA490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9E362-59F9-4905-B0A2-271E5083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8FE-09DA-44B5-8CD4-6303DEF5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92DA9-C360-459D-881F-76FCEACA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5537C-BC1C-46D9-AFD8-09C0F11B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4C12B-45A3-47F7-9509-71A7600B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0D864-6268-4874-B949-B693316E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8752D-918D-4901-90C3-345E68BC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B8B86-891B-4F01-9150-0748D970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37B0F-C5FB-4672-9E49-FDF59AAD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42B64-CF00-44E7-9599-A9F89978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2D072-857B-4FCD-A7E1-1212653A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CBB62-8CFF-46A8-8FBA-8E0E62BC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F3B-0F69-46B9-A180-34E03B8C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A6B6D-BD6C-42AD-9D3D-A0EB3FD8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F243E-FC9F-4A59-9245-675C528F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5D13A-F785-45E6-BB67-59334C89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5A130-8B07-467A-964F-84F6347D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9DC8F-569E-44FD-8DF8-7FF41B83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45AD5-7758-4610-A542-19E46F8B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F6D3F-9D18-45DD-BC50-45C4D89A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1E022-FF1F-401D-99EE-A6049D8A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403CD-44B4-4E39-80DA-07DB7ED2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DDE7A-47AF-44A1-B65A-5A3FA375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F23-7E6A-4FEA-8451-E679103E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AC0DC-204A-474C-AF3B-E9BDDE0D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310A0-9AB1-48C2-83F3-B4F89EED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02131-971F-4921-B113-F2543F1B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D40E6-0FD6-4B4D-A9F3-6FF9CDC5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C026F-C2B2-4B7C-92B2-BE42A476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B3300-CB60-4D7F-8E75-CDA5BC77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16BE6-AC2D-494E-9909-E3449BAC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CFCDB-8EE0-479D-9386-E3942F73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452D9-841A-4E73-B451-F2D4E061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82019-8508-4638-84F0-9D7A0590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78A-38B3-4DE8-A8CD-B83F0400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261CC-FCD1-4E3A-9B3C-40DD4811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BD533-B1BC-4225-836B-7CD6DFAF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15A18-5E1F-4BAA-A6ED-E333CB20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E08FD-F69D-48E1-9F08-E528B6F1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82BBE-6BA0-40D4-9E09-145823FA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0BBB9-A085-4A57-ACDC-6434FFC8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D972D-4A26-48BB-BD6F-3AD5B22A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8B563-6EDC-4285-B4FB-EF226BA5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1BB83-65AB-4805-9496-09F59562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798D3-05E1-4830-8D4D-7837015A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DDFA-4BA7-48A7-B6F8-8C4A7CD060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D488-1575-4A61-842E-BEFA5F0AA4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39AD-18D3-4621-9F5A-950EFC888A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BD63-9AE0-42C0-A574-59F233D3C2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FF87-FBFB-44D5-9DB7-C8E582E0F9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BAC2-30C9-4385-ADE4-DD0D81FCA7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E762-E7F9-4DF7-AD25-6A0CA73177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7E23-E98E-4403-86AB-6E1D4730C2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C3C3-4895-420A-8C07-7F131ED82B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3908-F39B-4E7F-A1C6-D6750325F7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1054-A599-4074-B51B-18D2FD0112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558E-BBEF-4A05-9FE7-641370C44E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D613-D1CD-489D-B3E8-CDD5A69B46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F349-C9FC-45F5-B7F5-BFC595EAFB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3CBB-FDF6-4625-ABC0-110E149887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0C71-4789-4A9F-A976-241174CA7B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35C6-192B-4334-BF65-C20B92B35A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4665-C592-43A3-88F0-0117021AD4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8616-A37C-4A3C-80FD-59A783BE28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1829-1577-4C93-872C-1D4D9F5EA5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F19E-BC29-46EC-A90B-FCD3D8C9E2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EB73-17C7-4E46-BBAA-C753ED7EA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F5A8-9681-4D52-8D24-4D63A64F3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A475-8E36-4452-A4D9-AC377EF024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E62F-F7AA-4E82-9138-83F07E7C88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3455-7600-4C88-913A-C3C2CCAC7A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DC32-7910-4450-9116-B972389BC9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36C6-E3D2-4AEF-AB0B-2F2E6140F2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0BE4-4068-46E7-8AC0-5B6D0A80F2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79A0-CD75-4643-B32F-673A09A8B0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560D-7C10-4888-8CE3-6D8EEAE0E4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2B9B-C40D-483F-9005-85ED536E29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A321-008E-4EB0-860A-FCD3D8B879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5A78-8894-4CF4-A64F-38FC648A8F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2652-81FB-4CAE-B9B0-61952CE7CD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D8C0-D235-483F-9A37-80A30D8AE4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147A-B493-4772-98BE-346630D756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EDDD-30A7-4A59-86CA-92F7C3DFE2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05C3-D29C-4AA3-8DAE-E04D01A5E5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CE7F-1C8B-4138-ABBC-B56221C212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7DAD-16CA-4833-BFE7-137C8BE90E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2B94-240C-465C-AAA1-541B474F0D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9B77-22FB-41EF-900B-17EC11AAE7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F384-8D3A-4164-98A3-E78FEDCCB4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3122-D220-41F1-96AB-1E69607866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7D40-A28E-4EA6-AE1B-9839A9525D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EFEE-D451-4FF0-900B-7EB791F4A6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9652-989C-4F93-B5B6-FD38FA63FA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0DB7-4CFD-4CED-8498-4CCCE44C27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5F4A-59E8-41E9-B9A3-E23B041290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781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673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48680" cy="581040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6738"/>
          <p:cNvSpPr/>
          <p:nvPr/>
        </p:nvSpPr>
        <p:spPr>
          <a:xfrm>
            <a:off x="7812000" y="1916280"/>
            <a:ext cx="40176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5713" descr=""/>
          <p:cNvPicPr/>
          <p:nvPr/>
        </p:nvPicPr>
        <p:blipFill>
          <a:blip r:embed="rId1"/>
          <a:stretch/>
        </p:blipFill>
        <p:spPr>
          <a:xfrm>
            <a:off x="457200" y="1704960"/>
            <a:ext cx="8229600" cy="3448080"/>
          </a:xfrm>
          <a:prstGeom prst="rect">
            <a:avLst/>
          </a:prstGeom>
          <a:ln w="0">
            <a:noFill/>
          </a:ln>
        </p:spPr>
      </p:pic>
      <p:sp>
        <p:nvSpPr>
          <p:cNvPr id="1472" name="矩形 115714"/>
          <p:cNvSpPr/>
          <p:nvPr/>
        </p:nvSpPr>
        <p:spPr>
          <a:xfrm>
            <a:off x="7872480" y="2230560"/>
            <a:ext cx="4014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14689" descr=""/>
          <p:cNvPicPr/>
          <p:nvPr/>
        </p:nvPicPr>
        <p:blipFill>
          <a:blip r:embed="rId1"/>
          <a:stretch/>
        </p:blipFill>
        <p:spPr>
          <a:xfrm>
            <a:off x="533520" y="1457280"/>
            <a:ext cx="8076960" cy="394344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14690"/>
          <p:cNvSpPr/>
          <p:nvPr/>
        </p:nvSpPr>
        <p:spPr>
          <a:xfrm>
            <a:off x="4859280" y="1989000"/>
            <a:ext cx="374508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4691"/>
          <p:cNvSpPr/>
          <p:nvPr/>
        </p:nvSpPr>
        <p:spPr>
          <a:xfrm>
            <a:off x="1692360" y="2492280"/>
            <a:ext cx="691200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4692"/>
          <p:cNvSpPr/>
          <p:nvPr/>
        </p:nvSpPr>
        <p:spPr>
          <a:xfrm>
            <a:off x="1725480" y="3043080"/>
            <a:ext cx="13338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4693"/>
          <p:cNvSpPr/>
          <p:nvPr/>
        </p:nvSpPr>
        <p:spPr>
          <a:xfrm>
            <a:off x="3639960" y="4033800"/>
            <a:ext cx="309276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4694"/>
          <p:cNvSpPr/>
          <p:nvPr/>
        </p:nvSpPr>
        <p:spPr>
          <a:xfrm>
            <a:off x="7059600" y="4249800"/>
            <a:ext cx="1544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4695"/>
          <p:cNvSpPr/>
          <p:nvPr/>
        </p:nvSpPr>
        <p:spPr>
          <a:xfrm>
            <a:off x="1560600" y="4732200"/>
            <a:ext cx="4595760" cy="5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366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91440" cy="1724040"/>
          </a:xfrm>
          <a:prstGeom prst="rect">
            <a:avLst/>
          </a:prstGeom>
          <a:ln w="0">
            <a:noFill/>
          </a:ln>
        </p:spPr>
      </p:pic>
      <p:pic>
        <p:nvPicPr>
          <p:cNvPr id="1481" name="图片 113666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8039160" cy="120996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3667"/>
          <p:cNvSpPr/>
          <p:nvPr/>
        </p:nvSpPr>
        <p:spPr>
          <a:xfrm>
            <a:off x="1827360" y="2319480"/>
            <a:ext cx="310500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3668"/>
          <p:cNvSpPr/>
          <p:nvPr/>
        </p:nvSpPr>
        <p:spPr>
          <a:xfrm>
            <a:off x="1992240" y="3970440"/>
            <a:ext cx="358776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112641" descr=""/>
          <p:cNvPicPr/>
          <p:nvPr/>
        </p:nvPicPr>
        <p:blipFill>
          <a:blip r:embed="rId1"/>
          <a:stretch/>
        </p:blipFill>
        <p:spPr>
          <a:xfrm>
            <a:off x="461880" y="966960"/>
            <a:ext cx="8220240" cy="4924080"/>
          </a:xfrm>
          <a:prstGeom prst="rect">
            <a:avLst/>
          </a:prstGeom>
          <a:ln w="0">
            <a:noFill/>
          </a:ln>
        </p:spPr>
      </p:pic>
      <p:sp>
        <p:nvSpPr>
          <p:cNvPr id="1485" name="矩形 112642"/>
          <p:cNvSpPr/>
          <p:nvPr/>
        </p:nvSpPr>
        <p:spPr>
          <a:xfrm>
            <a:off x="3186000" y="2522520"/>
            <a:ext cx="5223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2643"/>
          <p:cNvSpPr/>
          <p:nvPr/>
        </p:nvSpPr>
        <p:spPr>
          <a:xfrm>
            <a:off x="2017800" y="3538440"/>
            <a:ext cx="305892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2644"/>
          <p:cNvSpPr/>
          <p:nvPr/>
        </p:nvSpPr>
        <p:spPr>
          <a:xfrm>
            <a:off x="1484280" y="5240160"/>
            <a:ext cx="305928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1617" descr=""/>
          <p:cNvPicPr/>
          <p:nvPr/>
        </p:nvPicPr>
        <p:blipFill>
          <a:blip r:embed="rId1"/>
          <a:stretch/>
        </p:blipFill>
        <p:spPr>
          <a:xfrm>
            <a:off x="590400" y="1238400"/>
            <a:ext cx="7963200" cy="438120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1618"/>
          <p:cNvSpPr/>
          <p:nvPr/>
        </p:nvSpPr>
        <p:spPr>
          <a:xfrm>
            <a:off x="5307120" y="1735200"/>
            <a:ext cx="286524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1619"/>
          <p:cNvSpPr/>
          <p:nvPr/>
        </p:nvSpPr>
        <p:spPr>
          <a:xfrm>
            <a:off x="2347920" y="2433600"/>
            <a:ext cx="286560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1620"/>
          <p:cNvSpPr/>
          <p:nvPr/>
        </p:nvSpPr>
        <p:spPr>
          <a:xfrm>
            <a:off x="1763640" y="4084560"/>
            <a:ext cx="16210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1621"/>
          <p:cNvSpPr/>
          <p:nvPr/>
        </p:nvSpPr>
        <p:spPr>
          <a:xfrm>
            <a:off x="5472000" y="4059360"/>
            <a:ext cx="212436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1622"/>
          <p:cNvSpPr/>
          <p:nvPr/>
        </p:nvSpPr>
        <p:spPr>
          <a:xfrm>
            <a:off x="8062920" y="4719600"/>
            <a:ext cx="401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1623"/>
          <p:cNvSpPr/>
          <p:nvPr/>
        </p:nvSpPr>
        <p:spPr>
          <a:xfrm>
            <a:off x="1547640" y="5113440"/>
            <a:ext cx="504036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1059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48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09569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1914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08545" descr=""/>
          <p:cNvPicPr/>
          <p:nvPr/>
        </p:nvPicPr>
        <p:blipFill>
          <a:blip r:embed="rId1"/>
          <a:stretch/>
        </p:blipFill>
        <p:spPr>
          <a:xfrm>
            <a:off x="619200" y="1795320"/>
            <a:ext cx="7905600" cy="3267360"/>
          </a:xfrm>
          <a:prstGeom prst="rect">
            <a:avLst/>
          </a:prstGeom>
          <a:ln w="0">
            <a:noFill/>
          </a:ln>
        </p:spPr>
      </p:pic>
      <p:sp>
        <p:nvSpPr>
          <p:cNvPr id="1498" name="矩形 108546"/>
          <p:cNvSpPr/>
          <p:nvPr/>
        </p:nvSpPr>
        <p:spPr>
          <a:xfrm>
            <a:off x="2881440" y="2332080"/>
            <a:ext cx="5578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8547"/>
          <p:cNvSpPr/>
          <p:nvPr/>
        </p:nvSpPr>
        <p:spPr>
          <a:xfrm>
            <a:off x="1382760" y="2852640"/>
            <a:ext cx="297324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8548"/>
          <p:cNvSpPr/>
          <p:nvPr/>
        </p:nvSpPr>
        <p:spPr>
          <a:xfrm>
            <a:off x="7567560" y="3284640"/>
            <a:ext cx="8920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8549"/>
          <p:cNvSpPr/>
          <p:nvPr/>
        </p:nvSpPr>
        <p:spPr>
          <a:xfrm>
            <a:off x="1452600" y="3817800"/>
            <a:ext cx="232740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08551"/>
          <p:cNvSpPr/>
          <p:nvPr/>
        </p:nvSpPr>
        <p:spPr>
          <a:xfrm>
            <a:off x="7643880" y="3843360"/>
            <a:ext cx="8920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08552"/>
          <p:cNvSpPr/>
          <p:nvPr/>
        </p:nvSpPr>
        <p:spPr>
          <a:xfrm>
            <a:off x="1476360" y="4437000"/>
            <a:ext cx="3460680" cy="5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图片 107521" descr=""/>
          <p:cNvPicPr/>
          <p:nvPr/>
        </p:nvPicPr>
        <p:blipFill>
          <a:blip r:embed="rId1"/>
          <a:stretch/>
        </p:blipFill>
        <p:spPr>
          <a:xfrm>
            <a:off x="628560" y="2057400"/>
            <a:ext cx="7886880" cy="2743200"/>
          </a:xfrm>
          <a:prstGeom prst="rect">
            <a:avLst/>
          </a:prstGeom>
          <a:ln w="0">
            <a:noFill/>
          </a:ln>
        </p:spPr>
      </p:pic>
      <p:sp>
        <p:nvSpPr>
          <p:cNvPr id="1505" name="矩形 107522"/>
          <p:cNvSpPr/>
          <p:nvPr/>
        </p:nvSpPr>
        <p:spPr>
          <a:xfrm>
            <a:off x="6132600" y="1951200"/>
            <a:ext cx="240012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7523"/>
          <p:cNvSpPr/>
          <p:nvPr/>
        </p:nvSpPr>
        <p:spPr>
          <a:xfrm>
            <a:off x="2602080" y="5202360"/>
            <a:ext cx="13222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7524"/>
          <p:cNvSpPr/>
          <p:nvPr/>
        </p:nvSpPr>
        <p:spPr>
          <a:xfrm>
            <a:off x="1255680" y="2459160"/>
            <a:ext cx="13222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07525"/>
          <p:cNvSpPr/>
          <p:nvPr/>
        </p:nvSpPr>
        <p:spPr>
          <a:xfrm>
            <a:off x="7199280" y="2484360"/>
            <a:ext cx="13222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07526"/>
          <p:cNvSpPr/>
          <p:nvPr/>
        </p:nvSpPr>
        <p:spPr>
          <a:xfrm>
            <a:off x="1433520" y="2992320"/>
            <a:ext cx="45784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07527"/>
          <p:cNvSpPr/>
          <p:nvPr/>
        </p:nvSpPr>
        <p:spPr>
          <a:xfrm>
            <a:off x="7224840" y="3500280"/>
            <a:ext cx="1322280" cy="4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07528"/>
          <p:cNvSpPr/>
          <p:nvPr/>
        </p:nvSpPr>
        <p:spPr>
          <a:xfrm>
            <a:off x="1382760" y="4008600"/>
            <a:ext cx="20368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28680" y="1138320"/>
            <a:ext cx="8486640" cy="458136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2340000" y="2205000"/>
            <a:ext cx="431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3432240" y="2205000"/>
            <a:ext cx="431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3343320" y="2560680"/>
            <a:ext cx="581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1501920" y="2903400"/>
            <a:ext cx="5810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6084720" y="2905200"/>
            <a:ext cx="719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5"/>
          <p:cNvSpPr/>
          <p:nvPr/>
        </p:nvSpPr>
        <p:spPr>
          <a:xfrm>
            <a:off x="3597120" y="3741840"/>
            <a:ext cx="581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6"/>
          <p:cNvSpPr/>
          <p:nvPr/>
        </p:nvSpPr>
        <p:spPr>
          <a:xfrm>
            <a:off x="6188040" y="3602160"/>
            <a:ext cx="2200320" cy="4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7"/>
          <p:cNvSpPr/>
          <p:nvPr/>
        </p:nvSpPr>
        <p:spPr>
          <a:xfrm>
            <a:off x="6937200" y="4148280"/>
            <a:ext cx="18115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8"/>
          <p:cNvSpPr/>
          <p:nvPr/>
        </p:nvSpPr>
        <p:spPr>
          <a:xfrm>
            <a:off x="971640" y="4543560"/>
            <a:ext cx="1138320" cy="4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9"/>
          <p:cNvSpPr/>
          <p:nvPr/>
        </p:nvSpPr>
        <p:spPr>
          <a:xfrm>
            <a:off x="2568600" y="4541760"/>
            <a:ext cx="3155760" cy="4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40"/>
          <p:cNvSpPr/>
          <p:nvPr/>
        </p:nvSpPr>
        <p:spPr>
          <a:xfrm>
            <a:off x="4778280" y="5062680"/>
            <a:ext cx="116208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1"/>
          <p:cNvSpPr/>
          <p:nvPr/>
        </p:nvSpPr>
        <p:spPr>
          <a:xfrm>
            <a:off x="8131320" y="5037120"/>
            <a:ext cx="581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3905" descr=""/>
          <p:cNvPicPr/>
          <p:nvPr/>
        </p:nvPicPr>
        <p:blipFill>
          <a:blip r:embed="rId1"/>
          <a:stretch/>
        </p:blipFill>
        <p:spPr>
          <a:xfrm>
            <a:off x="347760" y="1757520"/>
            <a:ext cx="8448480" cy="334296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3906"/>
          <p:cNvSpPr/>
          <p:nvPr/>
        </p:nvSpPr>
        <p:spPr>
          <a:xfrm>
            <a:off x="8101080" y="3068640"/>
            <a:ext cx="4014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2881" descr=""/>
          <p:cNvPicPr/>
          <p:nvPr/>
        </p:nvPicPr>
        <p:blipFill>
          <a:blip r:embed="rId1"/>
          <a:stretch/>
        </p:blipFill>
        <p:spPr>
          <a:xfrm>
            <a:off x="299880" y="2052720"/>
            <a:ext cx="8544240" cy="275256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2882"/>
          <p:cNvSpPr/>
          <p:nvPr/>
        </p:nvSpPr>
        <p:spPr>
          <a:xfrm>
            <a:off x="8101080" y="2349360"/>
            <a:ext cx="4014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21857" descr=""/>
          <p:cNvPicPr/>
          <p:nvPr/>
        </p:nvPicPr>
        <p:blipFill>
          <a:blip r:embed="rId1"/>
          <a:stretch/>
        </p:blipFill>
        <p:spPr>
          <a:xfrm>
            <a:off x="318960" y="2543040"/>
            <a:ext cx="8506080" cy="17719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1858"/>
          <p:cNvSpPr/>
          <p:nvPr/>
        </p:nvSpPr>
        <p:spPr>
          <a:xfrm>
            <a:off x="8101080" y="3284640"/>
            <a:ext cx="4014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0833" descr=""/>
          <p:cNvPicPr/>
          <p:nvPr/>
        </p:nvPicPr>
        <p:blipFill>
          <a:blip r:embed="rId1"/>
          <a:stretch/>
        </p:blipFill>
        <p:spPr>
          <a:xfrm>
            <a:off x="343080" y="1671480"/>
            <a:ext cx="8458200" cy="351504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0834"/>
          <p:cNvSpPr/>
          <p:nvPr/>
        </p:nvSpPr>
        <p:spPr>
          <a:xfrm>
            <a:off x="2360520" y="3398760"/>
            <a:ext cx="401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0835"/>
          <p:cNvSpPr/>
          <p:nvPr/>
        </p:nvSpPr>
        <p:spPr>
          <a:xfrm>
            <a:off x="3059280" y="3403440"/>
            <a:ext cx="43308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0836"/>
          <p:cNvSpPr/>
          <p:nvPr/>
        </p:nvSpPr>
        <p:spPr>
          <a:xfrm>
            <a:off x="3719520" y="3398760"/>
            <a:ext cx="401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0837"/>
          <p:cNvSpPr/>
          <p:nvPr/>
        </p:nvSpPr>
        <p:spPr>
          <a:xfrm>
            <a:off x="4367160" y="3398760"/>
            <a:ext cx="401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0838"/>
          <p:cNvSpPr/>
          <p:nvPr/>
        </p:nvSpPr>
        <p:spPr>
          <a:xfrm>
            <a:off x="6919920" y="3475080"/>
            <a:ext cx="16844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0839"/>
          <p:cNvSpPr/>
          <p:nvPr/>
        </p:nvSpPr>
        <p:spPr>
          <a:xfrm>
            <a:off x="7148520" y="3868560"/>
            <a:ext cx="116856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0840"/>
          <p:cNvSpPr/>
          <p:nvPr/>
        </p:nvSpPr>
        <p:spPr>
          <a:xfrm>
            <a:off x="4875120" y="4376880"/>
            <a:ext cx="40176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0841"/>
          <p:cNvSpPr/>
          <p:nvPr/>
        </p:nvSpPr>
        <p:spPr>
          <a:xfrm>
            <a:off x="5827680" y="4402080"/>
            <a:ext cx="401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0842"/>
          <p:cNvSpPr/>
          <p:nvPr/>
        </p:nvSpPr>
        <p:spPr>
          <a:xfrm>
            <a:off x="6361200" y="4389480"/>
            <a:ext cx="4014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0843"/>
          <p:cNvSpPr/>
          <p:nvPr/>
        </p:nvSpPr>
        <p:spPr>
          <a:xfrm>
            <a:off x="6948360" y="4600440"/>
            <a:ext cx="15843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9810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334360" cy="264816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9811"/>
          <p:cNvSpPr/>
          <p:nvPr/>
        </p:nvSpPr>
        <p:spPr>
          <a:xfrm>
            <a:off x="7758000" y="3170160"/>
            <a:ext cx="401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8785" descr=""/>
          <p:cNvPicPr/>
          <p:nvPr/>
        </p:nvPicPr>
        <p:blipFill>
          <a:blip r:embed="rId1"/>
          <a:stretch/>
        </p:blipFill>
        <p:spPr>
          <a:xfrm>
            <a:off x="500040" y="1933560"/>
            <a:ext cx="8143920" cy="299088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8786"/>
          <p:cNvSpPr/>
          <p:nvPr/>
        </p:nvSpPr>
        <p:spPr>
          <a:xfrm>
            <a:off x="7885080" y="2997360"/>
            <a:ext cx="40176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7761" descr=""/>
          <p:cNvPicPr/>
          <p:nvPr/>
        </p:nvPicPr>
        <p:blipFill>
          <a:blip r:embed="rId1"/>
          <a:stretch/>
        </p:blipFill>
        <p:spPr>
          <a:xfrm>
            <a:off x="447840" y="1924200"/>
            <a:ext cx="8248320" cy="300960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7762"/>
          <p:cNvSpPr/>
          <p:nvPr/>
        </p:nvSpPr>
        <p:spPr>
          <a:xfrm>
            <a:off x="7956720" y="2421000"/>
            <a:ext cx="4014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7:31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